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19D-4F92-4F7A-BF2D-BD5FAAC1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F55-7231-4156-ACAC-465BF01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E32-F0FE-40E0-AC44-4F4FB7DE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A75-AFAB-42A0-88A7-700D102B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29F-C7C8-47DB-A41E-C6F4F0EB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9CD-4E03-4B80-A87F-8FBD5ABF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95E-4AD1-4125-89EC-74BB2449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E37-82FF-42E0-8ED8-D064D4BA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66F-5E7C-472F-9306-76B847BD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041-F70D-424B-BF1E-90DA858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A3A-8AFE-4D3E-AA3A-D23A27E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1BA-4FF9-47BA-8566-A39C71A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7033-1D7E-4A59-A5F7-E1F14EB9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world like 4.5 billion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3.5 Billion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geology influence life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geography influence life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0:01:32Z</dcterms:created>
  <dc:creator>Tera Linn</dc:creator>
  <dc:description/>
  <dc:language>en-US</dc:language>
  <cp:lastModifiedBy>Tera Linn</cp:lastModifiedBy>
  <dcterms:modified xsi:type="dcterms:W3CDTF">2011-04-18T20:01:46Z</dcterms:modified>
  <cp:revision>1</cp:revision>
  <dc:subject/>
  <dc:title>Evolution</dc:title>
</cp:coreProperties>
</file>